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89D6-1662-409B-8FF4-30393F7E3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2C66-C3C9-4BEF-809C-663328E0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27BA-3ED7-4143-BA95-78B64EB1F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E965-B142-4944-8F47-98C61AC79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CA76-F577-4B9C-8083-1B43CCF0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5AAA-4001-44E4-8C31-4D3A465C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F4B5-8645-46E0-A7FF-C833E371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D801-876D-49FC-B796-C1D1EC2E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E2BA-614D-4DBB-8CFD-B2284ADB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9C1B-E7A9-42AB-A778-BAAEEB29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9D83-BA34-4842-8F4E-C2896F89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9576-309F-4B5C-93A1-DDC3D079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C41D-14FE-48F9-87F1-6B3F9A94C2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Comic Sans MS"/>
              </a:rPr>
              <a:t>Int 1/Int 2 P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514600"/>
            <a:ext cx="79250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kills and Techni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Less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Wednesday 9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omic Sans MS"/>
              </a:rPr>
              <a:t>th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Dece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1413000"/>
            <a:ext cx="845820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Homework – preparation for part 2 of your N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tudy everything that we have looked at on model performer and stages of learning.  Prepare 2 essay responses on all you know about bo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art 2 of NAB – Wednesday 16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December period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10:16:19Z</dcterms:created>
  <dc:creator>CarmichaelMA</dc:creator>
  <dc:description/>
  <dc:language>en-US</dc:language>
  <cp:lastModifiedBy>carmichaelma</cp:lastModifiedBy>
  <dcterms:modified xsi:type="dcterms:W3CDTF">2009-12-08T15:58:37Z</dcterms:modified>
  <cp:revision>31</cp:revision>
  <dc:subject/>
  <dc:title>Intermediate PE</dc:title>
</cp:coreProperties>
</file>